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wmf" ContentType="image/x-wmf"/>
  <Override PartName="/ppt/media/image17.png" ContentType="image/png"/>
  <Override PartName="/ppt/media/image11.png" ContentType="image/png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4.jpeg" ContentType="image/jpeg"/>
  <Override PartName="/ppt/media/image8.wmf" ContentType="image/x-wmf"/>
  <Override PartName="/ppt/media/image30.png" ContentType="image/png"/>
  <Override PartName="/ppt/media/image28.png" ContentType="image/png"/>
  <Override PartName="/ppt/media/image34.png" ContentType="image/png"/>
  <Override PartName="/ppt/media/image9.png" ContentType="image/png"/>
  <Override PartName="/ppt/media/image37.wmf" ContentType="image/x-wmf"/>
  <Override PartName="/ppt/media/image38.png" ContentType="image/png"/>
  <Override PartName="/ppt/media/image6.png" ContentType="image/png"/>
  <Override PartName="/ppt/media/image36.png" ContentType="image/png"/>
  <Override PartName="/ppt/media/image16.wmf" ContentType="image/x-wmf"/>
  <Override PartName="/ppt/media/image33.png" ContentType="image/png"/>
  <Override PartName="/ppt/media/image3.png" ContentType="image/png"/>
  <Override PartName="/ppt/media/image5.png" ContentType="image/png"/>
  <Override PartName="/ppt/media/image35.png" ContentType="image/png"/>
  <Override PartName="/ppt/media/image18.wmf" ContentType="image/x-wmf"/>
  <Override PartName="/ppt/media/image14.png" ContentType="image/png"/>
  <Override PartName="/ppt/media/image1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930240" y="741240"/>
            <a:ext cx="493704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1999E-3BA4-477C-A118-E9CA13D6BF0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30240" y="741240"/>
            <a:ext cx="4937040" cy="37022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0A0DE-0542-41A6-A16D-A3E98E42B8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30240" y="741240"/>
            <a:ext cx="4937040" cy="3702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66507-15DC-44A3-9D9C-98DE4F691C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30240" y="741240"/>
            <a:ext cx="4937040" cy="3702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D8A0E-EF80-4141-8256-94D21DE1E9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EDCF-04F5-4BC0-9277-3AD497AB7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F255-1126-472F-A4B3-6A6D140B5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0978-0B32-467C-96FE-AE7D4ACEE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CC1F-C218-495F-9C79-5F7847117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B514F-5D49-4300-B578-0EF49125B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63C52-1619-4055-9C07-6B79FA44E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0682C-8F54-4269-AE2D-BDEA27E41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03033-255A-4325-90BA-FEB5690E6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2EE96-3143-4C97-A380-87250E771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73D93-BB0C-454B-97A5-D6CCDB040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B813C-6373-41F2-9623-9E6F53E8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55C3-CFB2-49BF-B94A-7AF312FA3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92A75-0C2A-4B6D-84E8-56DF5E013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4AE24-FC8F-4420-8F9F-84F7E59B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83A3A-CD03-4B83-A042-18A78938B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436B5-614D-4EF3-A4EC-16292EF95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DAB91-7980-4A8D-861B-3433E12C3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FF0F6-F95E-4119-B027-172244BAC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92812-094B-4F94-A390-231FB43D9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E0F03-C99A-4FF3-80E1-A0127E46C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A5768-1AF7-44A0-9A56-DF95B2989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FAFE0-013C-4BF4-A478-78C7A35B5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A040-1137-462B-8026-47792F3E4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02CF1-DEE1-405F-9528-2C3C11B33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914DA-2713-49AD-B30E-52604AF8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96698-F7ED-47B5-BCD2-0107364D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8544F-95B2-4046-9176-83E80921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DD1D6-2260-42B7-AD35-979DBCD03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55330-A643-42EC-86BD-378E73207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AD2C8-0FF9-433B-8DEF-ED967D426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7C0E7-959F-4C40-A156-5D186C719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306AF-1EA8-47BC-AA72-96FF4F47E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95ACA-810E-4D6D-9B1E-97DC25976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2114-6DFE-4427-B186-97A26CBF1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EAD3A-FE88-4C6C-AF05-8739CDA46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DBB3F-4D46-42E5-A0BC-836136896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B8466-79EC-40B4-A2DA-F402F76CD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FF560-6715-40DB-9561-4859DE84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A7C1D-83C1-4C1E-A603-38E790AB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7719C-C68B-44B7-9A42-37042728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1D464-245F-43BF-8D68-99639CF60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9FDE3-BA22-4DD8-8B50-743F2A7AD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CFB02-BC5A-434A-A6F2-A7F0AB3DA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9278-5B93-4709-957B-6EDB73AE5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B472-DAB1-4FF5-B8CD-0A38F63EF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5252-4098-4DE6-BF3F-7AB2006C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E59B-85C3-4883-A945-EC7527A2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EBB1-178E-4629-902E-1CA8E47D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AB24B-B0F0-4C7C-A4D1-6A4A8852B598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06191-345B-4D77-93B2-6D57553CA025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4CD18-270E-426D-9604-E63C899AC6B1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310DE-49C3-455C-B799-D3A590F4DAA4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3" descr=""/>
          <p:cNvPicPr/>
          <p:nvPr/>
        </p:nvPicPr>
        <p:blipFill>
          <a:blip r:embed="rId1"/>
          <a:stretch/>
        </p:blipFill>
        <p:spPr>
          <a:xfrm>
            <a:off x="530280" y="-1054080"/>
            <a:ext cx="7864560" cy="44924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10920" y="4941720"/>
            <a:ext cx="7993080" cy="12240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териалы подготовлены на основе решения Собрания депутатов Еткульского муниципального района от 28.03.2018г. №  353 «Об исполнении бюджета  Еткульского муниципального района за 2017 год»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Прямоугольник 4"/>
          <p:cNvSpPr/>
          <p:nvPr/>
        </p:nvSpPr>
        <p:spPr>
          <a:xfrm>
            <a:off x="611280" y="620640"/>
            <a:ext cx="777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Исполнение бюджета Еткульского муниципального района за 2017 год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-60480" y="49320"/>
            <a:ext cx="9217080" cy="124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5" name="Object 38"/>
          <p:cNvGraphicFramePr/>
          <p:nvPr/>
        </p:nvGraphicFramePr>
        <p:xfrm>
          <a:off x="757080" y="2395440"/>
          <a:ext cx="7629840" cy="3467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6" name="Object 3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7080" y="2395440"/>
                    <a:ext cx="7629840" cy="34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TextBox 2"/>
          <p:cNvSpPr/>
          <p:nvPr/>
        </p:nvSpPr>
        <p:spPr>
          <a:xfrm>
            <a:off x="7093080" y="114300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лн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341280" y="182520"/>
            <a:ext cx="8717040" cy="1017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9" name="Содержимое 6"/>
          <p:cNvGraphicFramePr/>
          <p:nvPr/>
        </p:nvGraphicFramePr>
        <p:xfrm>
          <a:off x="60480" y="1316160"/>
          <a:ext cx="8615160" cy="5175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40" name="Содержимое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480" y="1316160"/>
                    <a:ext cx="8615160" cy="51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TextBox 3"/>
          <p:cNvSpPr/>
          <p:nvPr/>
        </p:nvSpPr>
        <p:spPr>
          <a:xfrm>
            <a:off x="2411280" y="450864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4"/>
          <p:cNvSpPr/>
          <p:nvPr/>
        </p:nvSpPr>
        <p:spPr>
          <a:xfrm>
            <a:off x="1258920" y="414972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8"/>
          <p:cNvSpPr/>
          <p:nvPr/>
        </p:nvSpPr>
        <p:spPr>
          <a:xfrm>
            <a:off x="3635280" y="450864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9"/>
          <p:cNvSpPr/>
          <p:nvPr/>
        </p:nvSpPr>
        <p:spPr>
          <a:xfrm>
            <a:off x="4788000" y="4508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0"/>
          <p:cNvSpPr/>
          <p:nvPr/>
        </p:nvSpPr>
        <p:spPr>
          <a:xfrm>
            <a:off x="5940360" y="422100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1"/>
          <p:cNvSpPr/>
          <p:nvPr/>
        </p:nvSpPr>
        <p:spPr>
          <a:xfrm>
            <a:off x="7093080" y="450864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4617b"/>
                </a:solidFill>
                <a:latin typeface="Calibri"/>
              </a:rPr>
              <a:t>  </a:t>
            </a:r>
            <a:r>
              <a:rPr b="1" lang="ru-RU" sz="2900" spc="-1" strike="noStrike">
                <a:solidFill>
                  <a:srgbClr val="7030a0"/>
                </a:solidFill>
                <a:latin typeface="Calibri"/>
              </a:rPr>
              <a:t>Программный бюджет </a:t>
            </a:r>
            <a:br>
              <a:rPr sz="2900"/>
            </a:br>
            <a:r>
              <a:rPr b="0" lang="ru-RU" sz="2900" spc="-1" strike="noStrike">
                <a:solidFill>
                  <a:srgbClr val="0070c0"/>
                </a:solidFill>
                <a:latin typeface="Calibri"/>
              </a:rPr>
              <a:t>в 2017 году 98,3% расходов проведено по государственным и муниципальным программам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48" name="Содержимое 3"/>
          <p:cNvGraphicFramePr/>
          <p:nvPr/>
        </p:nvGraphicFramePr>
        <p:xfrm>
          <a:off x="485640" y="1935000"/>
          <a:ext cx="8172720" cy="43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9" name="Содержимое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640" y="1935000"/>
                    <a:ext cx="8172720" cy="43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Заголовок 1" descr=""/>
          <p:cNvPicPr/>
          <p:nvPr/>
        </p:nvPicPr>
        <p:blipFill>
          <a:blip r:embed="rId1"/>
          <a:stretch/>
        </p:blipFill>
        <p:spPr>
          <a:xfrm>
            <a:off x="201600" y="-12600"/>
            <a:ext cx="8813880" cy="121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1" name="Содержимое 3"/>
          <p:cNvGraphicFramePr/>
          <p:nvPr/>
        </p:nvGraphicFramePr>
        <p:xfrm>
          <a:off x="252360" y="1270080"/>
          <a:ext cx="8275680" cy="4763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52" name="Содержимое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2360" y="1270080"/>
                    <a:ext cx="8275680" cy="47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Содержимое 4" descr=""/>
          <p:cNvPicPr/>
          <p:nvPr/>
        </p:nvPicPr>
        <p:blipFill>
          <a:blip r:embed="rId1"/>
          <a:stretch/>
        </p:blipFill>
        <p:spPr>
          <a:xfrm>
            <a:off x="450720" y="487440"/>
            <a:ext cx="8193240" cy="5754600"/>
          </a:xfrm>
          <a:prstGeom prst="rect">
            <a:avLst/>
          </a:prstGeom>
          <a:ln w="0">
            <a:noFill/>
          </a:ln>
        </p:spPr>
      </p:pic>
      <p:sp>
        <p:nvSpPr>
          <p:cNvPr id="254" name="TextBox 5"/>
          <p:cNvSpPr/>
          <p:nvPr/>
        </p:nvSpPr>
        <p:spPr>
          <a:xfrm flipV="1" rot="10800000">
            <a:off x="468000" y="296784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раз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3"/>
          <p:cNvSpPr/>
          <p:nvPr/>
        </p:nvSpPr>
        <p:spPr>
          <a:xfrm>
            <a:off x="2771640" y="393372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тание школь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5"/>
          <p:cNvSpPr/>
          <p:nvPr/>
        </p:nvSpPr>
        <p:spPr>
          <a:xfrm>
            <a:off x="6227640" y="4005360"/>
            <a:ext cx="24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,1 млн.руб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Содержимое 4" descr=""/>
          <p:cNvPicPr/>
          <p:nvPr/>
        </p:nvPicPr>
        <p:blipFill>
          <a:blip r:embed="rId1"/>
          <a:stretch/>
        </p:blipFill>
        <p:spPr>
          <a:xfrm>
            <a:off x="244440" y="36360"/>
            <a:ext cx="8796240" cy="6626520"/>
          </a:xfrm>
          <a:prstGeom prst="rect">
            <a:avLst/>
          </a:prstGeom>
          <a:ln w="0">
            <a:noFill/>
          </a:ln>
        </p:spPr>
      </p:pic>
      <p:sp>
        <p:nvSpPr>
          <p:cNvPr id="258" name="TextBox 5"/>
          <p:cNvSpPr/>
          <p:nvPr/>
        </p:nvSpPr>
        <p:spPr>
          <a:xfrm flipV="1" rot="10800000">
            <a:off x="905040" y="30056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3"/>
          <p:cNvSpPr/>
          <p:nvPr/>
        </p:nvSpPr>
        <p:spPr>
          <a:xfrm>
            <a:off x="3419640" y="2708280"/>
            <a:ext cx="244764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циальная    поли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6"/>
          <p:cNvSpPr/>
          <p:nvPr/>
        </p:nvSpPr>
        <p:spPr>
          <a:xfrm>
            <a:off x="755640" y="1989000"/>
            <a:ext cx="2519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Обеспечение доступа инвалида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50,0 тыс.руб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c249"/>
                </a:solidFill>
                <a:latin typeface="Calibri"/>
              </a:rPr>
              <a:t>Программы </a:t>
            </a:r>
            <a:br>
              <a:rPr sz="3200"/>
            </a:br>
            <a:r>
              <a:rPr b="1" lang="ru-RU" sz="3200" spc="-1" strike="noStrike">
                <a:solidFill>
                  <a:srgbClr val="a5c249"/>
                </a:solidFill>
                <a:latin typeface="Calibri"/>
              </a:rPr>
              <a:t>по жилищно-коммунальному хозяйству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2" name="Содержимое 5" descr=""/>
          <p:cNvPicPr/>
          <p:nvPr/>
        </p:nvPicPr>
        <p:blipFill>
          <a:blip r:embed="rId1"/>
          <a:stretch/>
        </p:blipFill>
        <p:spPr>
          <a:xfrm>
            <a:off x="450720" y="1341360"/>
            <a:ext cx="824256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Расходование средств дорожного фонда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108000" y="1197000"/>
            <a:ext cx="8928000" cy="527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20680" indent="-220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onstantia"/>
              </a:rPr>
              <a:t>Очистка улично-дорожной сети от снега 1522,76 к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onstantia"/>
              </a:rPr>
              <a:t>Подсыпка щебнем и горельником                   8052 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onstantia"/>
              </a:rPr>
              <a:t>Грейдирование улично-дорожной сети  1027,35 к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onstantia"/>
              </a:rPr>
              <a:t>Разметка дорожной сети                                  7,94 к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onstantia"/>
              </a:rPr>
              <a:t>Ямочный ремонт                                                 9,12 к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onstantia"/>
              </a:rPr>
              <a:t>Искусственные неровности                                 8 шт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onstantia"/>
              </a:rPr>
              <a:t>Установка и ремонт светильников                 206 шт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onstantia"/>
              </a:rPr>
              <a:t>Замена проводов для уличного освещения  1030 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onstantia"/>
              </a:rPr>
              <a:t>Установка дорожных знаков                               6 шт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Calibri"/>
              </a:rPr>
              <a:t>Программы   по   культуре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6" name="Содержимое 5" descr=""/>
          <p:cNvPicPr/>
          <p:nvPr/>
        </p:nvPicPr>
        <p:blipFill>
          <a:blip r:embed="rId1"/>
          <a:stretch/>
        </p:blipFill>
        <p:spPr>
          <a:xfrm>
            <a:off x="450720" y="950760"/>
            <a:ext cx="8242560" cy="571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Содержимое 4" descr=""/>
          <p:cNvPicPr/>
          <p:nvPr/>
        </p:nvPicPr>
        <p:blipFill>
          <a:blip r:embed="rId1"/>
          <a:stretch/>
        </p:blipFill>
        <p:spPr>
          <a:xfrm>
            <a:off x="195120" y="-30240"/>
            <a:ext cx="8790120" cy="6875640"/>
          </a:xfrm>
          <a:prstGeom prst="rect">
            <a:avLst/>
          </a:prstGeom>
          <a:ln w="0">
            <a:noFill/>
          </a:ln>
        </p:spPr>
      </p:pic>
      <p:sp>
        <p:nvSpPr>
          <p:cNvPr id="268" name="TextBox 5"/>
          <p:cNvSpPr/>
          <p:nvPr/>
        </p:nvSpPr>
        <p:spPr>
          <a:xfrm flipV="1" rot="10800000">
            <a:off x="905040" y="30056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3"/>
          <p:cNvSpPr/>
          <p:nvPr/>
        </p:nvSpPr>
        <p:spPr>
          <a:xfrm>
            <a:off x="3708360" y="3141720"/>
            <a:ext cx="315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МОЛОДЁЖ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Исполнение местного бюджет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2565360"/>
            <a:ext cx="4038480" cy="37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Исполнение бюджета по доходам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-</a:t>
            </a:r>
            <a:r>
              <a:rPr b="0" i="1" lang="ru-RU" sz="2200" spc="-1" strike="noStrike">
                <a:solidFill>
                  <a:srgbClr val="000000"/>
                </a:solidFill>
                <a:latin typeface="Constantia"/>
              </a:rPr>
              <a:t> это обеспечение полного и своевременного поступления в бюджет отдельных видов доходов, в первую очередь, налогов и других обязательных платежей, по каждому источнику в соответствии с утвержденным бюджетным планом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648320" y="2565360"/>
            <a:ext cx="4038480" cy="37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Исполнение бюджета по расходам</a:t>
            </a:r>
            <a:r>
              <a:rPr b="0" i="1" lang="ru-RU" sz="2200" spc="-1" strike="noStrike">
                <a:solidFill>
                  <a:srgbClr val="000000"/>
                </a:solidFill>
                <a:latin typeface="Constantia"/>
              </a:rPr>
              <a:t> -означает последовательное финансирование мероприятий, предусмотренных решением о бюджете, в пределах утвержденных сумм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b050"/>
                </a:solidFill>
                <a:latin typeface="Calibri"/>
              </a:rPr>
              <a:t>Программы по защите населения </a:t>
            </a:r>
            <a:br>
              <a:rPr sz="2600"/>
            </a:br>
            <a:r>
              <a:rPr b="1" lang="ru-RU" sz="2600" spc="-1" strike="noStrike">
                <a:solidFill>
                  <a:srgbClr val="00b050"/>
                </a:solidFill>
                <a:latin typeface="Calibri"/>
              </a:rPr>
              <a:t>от чрезвычайных ситуаций и преступлений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1" name="Содержимое 5" descr=""/>
          <p:cNvPicPr/>
          <p:nvPr/>
        </p:nvPicPr>
        <p:blipFill>
          <a:blip r:embed="rId1"/>
          <a:stretch/>
        </p:blipFill>
        <p:spPr>
          <a:xfrm>
            <a:off x="450720" y="1365120"/>
            <a:ext cx="8242560" cy="531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Заголовок 1" descr=""/>
          <p:cNvPicPr/>
          <p:nvPr/>
        </p:nvPicPr>
        <p:blipFill>
          <a:blip r:embed="rId1"/>
          <a:stretch/>
        </p:blipFill>
        <p:spPr>
          <a:xfrm>
            <a:off x="-6480" y="237960"/>
            <a:ext cx="9156960" cy="962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3" name="Object 33"/>
          <p:cNvGraphicFramePr/>
          <p:nvPr/>
        </p:nvGraphicFramePr>
        <p:xfrm>
          <a:off x="395280" y="1943280"/>
          <a:ext cx="8137440" cy="4052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4" name="Object 3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943280"/>
                    <a:ext cx="8137440" cy="40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TextBox 5"/>
          <p:cNvSpPr/>
          <p:nvPr/>
        </p:nvSpPr>
        <p:spPr>
          <a:xfrm>
            <a:off x="250920" y="163836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лн.руб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4"/>
          <p:cNvSpPr/>
          <p:nvPr/>
        </p:nvSpPr>
        <p:spPr>
          <a:xfrm rot="16200000">
            <a:off x="1138320" y="3790800"/>
            <a:ext cx="1143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1"/>
          <p:cNvSpPr/>
          <p:nvPr/>
        </p:nvSpPr>
        <p:spPr>
          <a:xfrm rot="16200000">
            <a:off x="3924360" y="3647880"/>
            <a:ext cx="1143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TextBox 1" descr=""/>
          <p:cNvPicPr/>
          <p:nvPr/>
        </p:nvPicPr>
        <p:blipFill>
          <a:blip r:embed="rId1"/>
          <a:stretch/>
        </p:blipFill>
        <p:spPr>
          <a:xfrm>
            <a:off x="42840" y="536400"/>
            <a:ext cx="887580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Заголовок 4" descr=""/>
          <p:cNvPicPr/>
          <p:nvPr/>
        </p:nvPicPr>
        <p:blipFill>
          <a:blip r:embed="rId1"/>
          <a:stretch/>
        </p:blipFill>
        <p:spPr>
          <a:xfrm>
            <a:off x="420840" y="281160"/>
            <a:ext cx="748008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9" name="Object 34"/>
          <p:cNvGraphicFramePr/>
          <p:nvPr/>
        </p:nvGraphicFramePr>
        <p:xfrm>
          <a:off x="500040" y="1986120"/>
          <a:ext cx="8143920" cy="4286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0" name="Object 3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0040" y="1986120"/>
                    <a:ext cx="8143920" cy="42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TextBox 5"/>
          <p:cNvSpPr/>
          <p:nvPr/>
        </p:nvSpPr>
        <p:spPr>
          <a:xfrm>
            <a:off x="3132000" y="368136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98,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8"/>
          <p:cNvSpPr/>
          <p:nvPr/>
        </p:nvSpPr>
        <p:spPr>
          <a:xfrm>
            <a:off x="5867280" y="371628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96,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Заголовок 4" descr=""/>
          <p:cNvPicPr/>
          <p:nvPr/>
        </p:nvPicPr>
        <p:blipFill>
          <a:blip r:embed="rId1"/>
          <a:stretch/>
        </p:blipFill>
        <p:spPr>
          <a:xfrm>
            <a:off x="450720" y="701640"/>
            <a:ext cx="824256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Object 37"/>
          <p:cNvGraphicFramePr/>
          <p:nvPr/>
        </p:nvGraphicFramePr>
        <p:xfrm>
          <a:off x="519120" y="3059280"/>
          <a:ext cx="8105760" cy="2143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5" name="Object 3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9120" y="3059280"/>
                    <a:ext cx="8105760" cy="21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Стрелка вправо 7" descr=""/>
          <p:cNvPicPr/>
          <p:nvPr/>
        </p:nvPicPr>
        <p:blipFill>
          <a:blip r:embed="rId4"/>
          <a:stretch/>
        </p:blipFill>
        <p:spPr>
          <a:xfrm>
            <a:off x="3693960" y="4322880"/>
            <a:ext cx="2627640" cy="712800"/>
          </a:xfrm>
          <a:prstGeom prst="rect">
            <a:avLst/>
          </a:prstGeom>
          <a:ln w="0">
            <a:noFill/>
          </a:ln>
        </p:spPr>
      </p:pic>
      <p:pic>
        <p:nvPicPr>
          <p:cNvPr id="217" name="Стрелка вправо 4" descr=""/>
          <p:cNvPicPr/>
          <p:nvPr/>
        </p:nvPicPr>
        <p:blipFill>
          <a:blip r:embed="rId5"/>
          <a:stretch/>
        </p:blipFill>
        <p:spPr>
          <a:xfrm>
            <a:off x="2908440" y="3535200"/>
            <a:ext cx="268740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Заголовок 1" descr=""/>
          <p:cNvPicPr/>
          <p:nvPr/>
        </p:nvPicPr>
        <p:blipFill>
          <a:blip r:embed="rId1"/>
          <a:stretch/>
        </p:blipFill>
        <p:spPr>
          <a:xfrm>
            <a:off x="208080" y="208080"/>
            <a:ext cx="8802720" cy="1444680"/>
          </a:xfrm>
          <a:prstGeom prst="rect">
            <a:avLst/>
          </a:prstGeom>
          <a:ln w="0">
            <a:noFill/>
          </a:ln>
        </p:spPr>
      </p:pic>
      <p:pic>
        <p:nvPicPr>
          <p:cNvPr id="219" name="Объект 4" descr=""/>
          <p:cNvPicPr/>
          <p:nvPr/>
        </p:nvPicPr>
        <p:blipFill>
          <a:blip r:embed="rId2"/>
          <a:stretch/>
        </p:blipFill>
        <p:spPr>
          <a:xfrm>
            <a:off x="1235160" y="1935000"/>
            <a:ext cx="6673680" cy="43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201600" y="-12600"/>
            <a:ext cx="8813880" cy="167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1" name="Содержимое 3"/>
          <p:cNvGraphicFramePr/>
          <p:nvPr/>
        </p:nvGraphicFramePr>
        <p:xfrm>
          <a:off x="685800" y="1935000"/>
          <a:ext cx="7772400" cy="4388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2" name="Содержимое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935000"/>
                    <a:ext cx="7772400" cy="43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1" descr=""/>
          <p:cNvPicPr/>
          <p:nvPr/>
        </p:nvPicPr>
        <p:blipFill>
          <a:blip r:embed="rId1"/>
          <a:stretch/>
        </p:blipFill>
        <p:spPr>
          <a:xfrm>
            <a:off x="133200" y="244440"/>
            <a:ext cx="7877160" cy="1182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4" name="Object 43"/>
          <p:cNvGraphicFramePr/>
          <p:nvPr/>
        </p:nvGraphicFramePr>
        <p:xfrm>
          <a:off x="457200" y="2598840"/>
          <a:ext cx="8228160" cy="3062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5" name="Object 4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598840"/>
                    <a:ext cx="8228160" cy="30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1"/>
          <a:stretch/>
        </p:blipFill>
        <p:spPr>
          <a:xfrm>
            <a:off x="378000" y="182520"/>
            <a:ext cx="7686360" cy="897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7" name="Объект 3"/>
          <p:cNvGraphicFramePr/>
          <p:nvPr/>
        </p:nvGraphicFramePr>
        <p:xfrm>
          <a:off x="392040" y="905040"/>
          <a:ext cx="3835440" cy="2808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8" name="Объект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2040" y="905040"/>
                    <a:ext cx="3835440" cy="28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TextBox 5"/>
          <p:cNvSpPr/>
          <p:nvPr/>
        </p:nvSpPr>
        <p:spPr>
          <a:xfrm>
            <a:off x="404640" y="3429000"/>
            <a:ext cx="8280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азификация – 55,0 млн.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монт начальной школы – 6,0 млн.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обретение школьных автобусов – 3,3 млн.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роительство, реконструкция сетей (тепло, вода) –13,0млн.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рмирование современной городской среды  – 8,9 млн.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обретение жилья для переселения – 4,7 млн.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монт и оснащение клуба д.Копытово  – 3,4 млн.рубл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змещение убытков предприятиям ЖКХ – 7,6 млн.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выплату зарплаты по культуре – 3,5 млн.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6"/>
          <p:cNvSpPr/>
          <p:nvPr/>
        </p:nvSpPr>
        <p:spPr>
          <a:xfrm>
            <a:off x="3929040" y="1484280"/>
            <a:ext cx="460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ено дополнительно финансовой помощи от вышестоящих бюджетов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23,6 млн.рубл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 том числ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231840" y="-804960"/>
            <a:ext cx="8808840" cy="2243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2" name="Object 36"/>
          <p:cNvGraphicFramePr/>
          <p:nvPr/>
        </p:nvGraphicFramePr>
        <p:xfrm>
          <a:off x="250920" y="2062080"/>
          <a:ext cx="8353440" cy="3886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3" name="Object 3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2062080"/>
                    <a:ext cx="835344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2T05:45:23Z</dcterms:created>
  <dc:creator>Sasha</dc:creator>
  <dc:description/>
  <dc:language>en-US</dc:language>
  <cp:lastModifiedBy>Ольга</cp:lastModifiedBy>
  <cp:lastPrinted>2018-03-19T09:59:35Z</cp:lastPrinted>
  <dcterms:modified xsi:type="dcterms:W3CDTF">2018-04-09T06:31:53Z</dcterms:modified>
  <cp:revision>623</cp:revision>
  <dc:subject/>
  <dc:title>Проект</dc:title>
</cp:coreProperties>
</file>